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C96-1523-4922-B810-1E787FD1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97F-09A4-465D-B645-FF15E102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980-8B1D-43A9-801B-54FE86F4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936-0978-46EC-B0E6-9FBA00A5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0A9-469D-49F0-BE13-03B47190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4F3-D374-477C-8BFC-C238F7CA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A1E-F29B-4921-9C49-3A325B84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E17-DA6A-47C0-9DE3-F86B471E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A7C-AE0A-4440-804E-9AA89EA0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710-1CF9-4B4D-83B4-E4E0FD2D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00B-5479-4E25-8863-EF4E7D2D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7B4-B67C-4352-8DEC-0E2D5A13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1B28-3680-46A7-81E5-76F1563CC9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dszermenedzselé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00"/>
                </a:solidFill>
                <a:latin typeface="Arial"/>
              </a:rPr>
              <a:t>A hozzáférési jogosultságok (authorisation) fogalm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umok – erőforrások – elérése, ezekhez való hozzáférések privilégiumainak gyűjtőn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védelmi tartomán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S-DOS védelmi tartomá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nkrét példa: az MS-DOS command.com programja fut. Autentikáció nem volt,  beléptünk a védelmi tartományba. A command.com védelmi tartománya a legtöbb fájlhoz törlési jogot ad, de az IO.SYS és az MSDOS.SYS fájlokhoz nincs törlési j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ndows védelmi tartomá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Windows File Protection szolgálta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védelmi tartomán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nix pél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uid és gid – mellyek meghatározzák ki vagy te és mey csoportba tarozol – védelmi tartományokat is meghatároz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ét tartomány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uid-dal azonosít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gid.del azonosít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ány védelmi tartomány va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imum uid számszor gid szá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processzek egy vagy több védelmi tartományban fut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őforrások is 1 vagy több tartományhoz tartoz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ozzáférési jogok listája, jogosultsági listá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édelmi hálók leírásának két, különböző formája lehetsé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zzáférési jogok listája (ACL – Access Conrol Li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orma lényege, hogy maga az objektum tárolja a védelmi tartomány azonosítási lehetőségét, és az objektumokhoz való hozzáférési jogok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ogosultsági listák (CL – Capatibility Li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t jelenti, hogy egy processz mit csinálhat az opbjektummal. Ha nincs jogosultsága, akkor nem érheti 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ndszerindítás, leállítá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többtaszkos, esetleg több felhasználós operációs rendszer indítása bonyolultabb feladat, mint egy egyszerű gép bekapcs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perációs rendszer indulása több fázisban történi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ardver ROM rutinok fut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ún. boot loader f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operációs rendszer kernel inicializálód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„kézből” induló processzek keletkezne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ROM rutino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eszteléseket végeznek, ellenőrzik a memóriát, egyéb hardver komponens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ehetséges, hogy interaktív menüt kínálnak, ezeket a gép szállítója adja a géph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égül kezdeményezik a boot-olá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A boot folya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 fázisba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rst stage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ijelölt partíció 0. blokkjáról betöltődik a kezdeti betötő program és elind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kármilyen operációs rendszer betöltését kezdeményezheti, azzal, hogy indíthatja a second stage boot program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econd stage 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észe lehet egy op rendszer fájl-rendszerének: ott egy fájl, adott névvel, de speciális helyen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rendszer leállítás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kásos rendszerzárást a shutdown burokprogrammal végzi a rendszermenedz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hut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igyelmezteti a felhasználókat a rendszerzárá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eállítja a daemon processz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rminálja az aktív processz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Umountolja a fájlrendszere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ingle user futási módba állítja a rendsz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ad egy sync parancs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Fájlrendszer konzisztencia ellenőrzé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m megfelelő eszközkezelés, nem megfelelő rendszerzárás esetén a fájl-rendszer „széteshet”. A gyakoribb ok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ramkimaradás miatti nem normális rendszerzár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vehető médium kivétele umount el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Dos : scand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UNIX : fs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Fájlrendszer konzisztencia ellenőrzé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NIX pél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. fázis: az i-bögök ellenőrzése, adatgyűjtés a további fázisok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rvényes fájl típus bejegyzés kell legy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em nulla linkszám kell legy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rvényes blokk mutatók kelle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Jó fájl-méret bejegyzés kell legy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fázis : az ösvények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fázis: kapcsolat ellenőr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. fázis: hivatkozások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. fázis: szabad lista ellenőr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6. fázis : szabad lista helyreállí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rendszermenedzser legfontosabb feladatai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ndszer installálása, hangolása, méretre alakítása, karbantartása, erőforrás kezel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ndszer indítása, leáll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onfigurációs fájlok karbantartása, daemonok indítása, adott időben futtatandó parancsok indítása, kommunikációs beállítás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használók menedzsel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felhasználók menedzselé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mlaszámrendsz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számlaszám (account) egy azonosít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rőforrás felhasználás számlázására, nyilvántartására szolg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ulajdonossági kategóriák rögzítésére, a védelmi háló kialakításá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sztálya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sználat szer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ejelentkezésre szolgáló személyes használat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Bejelentkezésre nem szolgáló, de tulajdonosságot jelölő számlaszám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édelmi háló szer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orlátozott jogokat biztosí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okásos számlaszám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rivilegizált számlaszámok, melyeket a rendszermenedzserek használ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felhasználók menedzselé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UNIX számlaszám rendszerhez tartozó fájl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eket a bejelentkezéskor használja a rendsz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/etc/passw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/etc/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/etc/i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ntések, visszaállításo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ájlok, fájl-rendszerek tönkremehetnek, letörölhetjük őket véletlenül, és ha nem késztettünk rendszeresen mentéseket, rengeteg munkánk veszhet 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entési eszközök lehetnek szalagok, diszkek, CD-k, DVD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entések fajtái lehet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ájlok szerinti mentés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iszk kép máso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eljes mentés a teljes fájlrendszer men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észleges mentés, egy adott jegyzék alatti jegyzékrendszer ment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észíthetünk növekményes mentéseket (incremental backup)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on fájlok másolatai, melyek egy adott idő óta változt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Gyors, kis területet igény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ntések, visszaállításo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rendszermenedzser feladata, hogy stratégiát dolgozzon ki arra, h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kor mentse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lyen gyakran mentsen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lyenek legyenek a mentési technikák, a mentés-ellenőrzés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entési segédprogram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Windows,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tbackup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Gh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ni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rendszermenedzser legfontosabb feladatai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ájlrendszer mentése, visszaáll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ájlrendszer integritás biztosítása, szabad terület karbantar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plózások, események figyel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ztikák készítése, számlá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 rendszermenedzser legfontosabb feladatai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inte mindegyik tevékenység kapcsolatos a biztonság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gy rendszereknél külön biztonsági menedzsert foglalkoztat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ockázatok és védel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Általános szabály az,hogy a biztonságnak ára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yelembe kell venn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ép (rendszer) fontosság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iztonsági munkák mennyis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iztonsági komponensek hatását a felhasználók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 fenyegetések osztálya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. Fizikai fenyeget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mészeti csap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gosulatlan hozzáférések a termekhez, gépekhez, berendezésekh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. Logikai fenyegetés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lhasználók felelőtlensége, téved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gosult szolgáltatás megtagadása valamilyen probléma mia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gosulatlan hozzáférések erőforrásokhoz, információkhoz, szolgáltatásokh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édelemmel kapcsolatos koncepciók, fogalma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hivatkozás figyelés koncep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Reference Monitor koncepció a 60 –as években lett kidolgozva a több felhasználós rendszerek „hozzáféréses” típusú védelmi problémák megoldásá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292640"/>
            <a:ext cx="2159280" cy="792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5661000"/>
            <a:ext cx="2159280" cy="79236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ecurity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4292640"/>
            <a:ext cx="2158920" cy="792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4292640"/>
            <a:ext cx="2158920" cy="792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2997360"/>
            <a:ext cx="2158920" cy="792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onitor</a:t>
            </a:r>
            <a:br>
              <a:rPr sz="1800"/>
            </a:b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653000"/>
            <a:ext cx="57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4653000"/>
            <a:ext cx="50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00720" y="508428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95640" y="3789360"/>
            <a:ext cx="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2360" y="3789360"/>
            <a:ext cx="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Védelemmel kapcsolatos koncepciók, fogalmak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ubjects: szubjektu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ktív entitások, melyek objektumokat tudnak „elérni”. Ide tartoznak a felhasználók, a processzek,task-ok, job-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Objects: objektum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asszív entitások, erőforrások, szolgáltatások. Ilyenek a számítógépek, CPU-k, a memóriák, fájlok stb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ference Monitor Data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efiniált biztonsági követelmény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ecurtity Au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ztonsági figyelő, a hozzáférési kísérletek naplozása, riaszt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Reference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rendszer központi eleme. Bármilyen szubjektum, ha objektumhoz akar hozzáférni csakis ezen keresztül érheti 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00"/>
                </a:solidFill>
                <a:latin typeface="Arial"/>
              </a:rPr>
              <a:t>Az azonosítás (authentication) fogalm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zubjektumok azonosítandó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élja megmondani, hogy egy objektum melyik védelmi tartományba tarto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nnak külső és belső azonosítási technikák a felhasználók számá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ülső azonosítási lehető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ágneskártyás beléptető rends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nalkódos rends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épet, szobát záró kul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ső azonosítási lehető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lszós véde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éhány csak a felhasználó által ismert információk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6:47:17Z</dcterms:created>
  <dc:creator>Nagymáté Péter</dc:creator>
  <dc:description/>
  <dc:language>en-US</dc:language>
  <cp:lastModifiedBy>Nagymáté Péter</cp:lastModifiedBy>
  <dcterms:modified xsi:type="dcterms:W3CDTF">2004-05-20T09:36:12Z</dcterms:modified>
  <cp:revision>15</cp:revision>
  <dc:subject/>
  <dc:title>Operációs rendszerek</dc:title>
</cp:coreProperties>
</file>